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79A-8590-4191-AA86-61BEDB29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D88C-3ABF-44E9-834B-2610BCCC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3DF0-6CDF-4361-94ED-2D8F4273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5D53-F26A-4045-BFAB-2CFDE17F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22F8-712F-4BF1-B3AA-D2638100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6255-2DED-4FF3-9CB6-6CE3A597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8A73-E27F-46BC-9487-081461C4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374B-BF98-4C82-86FC-1E37EEA7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D765-D8CE-4982-AB18-EEBFC069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DA55-EA37-4AD7-BFF6-66F07D8B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4DB-69E7-48E8-8785-4C132B29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2890-9962-41DA-B32E-756E992E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B816-A9D6-4DE1-8866-A1E62580C6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yceum22@mail.ru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elovo-lyceum22.ru/2012-/2012-02-17-08-43-52.html" TargetMode="External"/><Relationship Id="rId2" Type="http://schemas.openxmlformats.org/officeDocument/2006/relationships/hyperlink" Target="http://www.belovo-lyceum22.ru/2012-/2012-02-17-08-44-49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Духовно-нравственное воспитание школьников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в условиях реализации ФГО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407628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ова Елена Николаевн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lyceum22@mail.r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(38452) 7-17-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1258920" y="260280"/>
            <a:ext cx="66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«Лицей № 22 города Белов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Социальное партнер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У пгт Бачатский Администрации АБ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кресная школа Богоявленского хра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блиотека пгт Бачат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ей пгт Бачат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Т города Бело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К «Бачатски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чатский угольный разре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Мероприятия, проекты, объедин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курсии по святым местам Кузба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тер – клас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седы о вечн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уски малотиражной газеты «Исто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уски литературно-художественной малотиражной газеты «Храм слова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тавки творческих раб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нь родного языка/ славянской письменности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здник русской душ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Беседы о вечн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нь православной молодежи и День св. Валент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ша вера – вера наших отцов (Осторожно – секта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В космос – Бога не видал» (Наука и вер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Ты один мне надежда и опора» (литературный язык, сленг, жаргон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Русь называют святою» (о князе Владимир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гласие и примир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 любви и влюбл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убрики сайта лице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ей истории школ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бинет психол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азета «Исто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тв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Исто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16000" y="1916280"/>
            <a:ext cx="3970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б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Исследования уча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Творческие работы уча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иртуальные экскурсии лицейского музе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стория лице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ческий опыт патриотического воспит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рь свои зн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астер-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азета "Истоки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 святым местам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Times New Roman"/>
              </a:rPr>
              <a:t>Год истории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250920" y="1989000"/>
            <a:ext cx="43923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Мастер-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69138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Издатель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rcRect l="19615" t="0" r="0" b="0"/>
          <a:stretch/>
        </p:blipFill>
        <p:spPr>
          <a:xfrm>
            <a:off x="179280" y="1413000"/>
            <a:ext cx="4464000" cy="496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rcRect l="21304" t="886" r="0" b="0"/>
          <a:stretch/>
        </p:blipFill>
        <p:spPr>
          <a:xfrm>
            <a:off x="4932360" y="1413000"/>
            <a:ext cx="4103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По святым места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1"/>
          <a:srcRect l="11460" t="0" r="0" b="0"/>
          <a:stretch/>
        </p:blipFill>
        <p:spPr>
          <a:xfrm>
            <a:off x="468360" y="1413000"/>
            <a:ext cx="6696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Родителя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16036" t="0" r="0" b="0"/>
          <a:stretch/>
        </p:blipFill>
        <p:spPr>
          <a:xfrm>
            <a:off x="324000" y="1341360"/>
            <a:ext cx="3390840" cy="323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2"/>
          <a:stretch/>
        </p:blipFill>
        <p:spPr>
          <a:xfrm>
            <a:off x="3132000" y="2205000"/>
            <a:ext cx="583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Опро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7752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2184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тратегия развития молодежи РФ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на период до 2025 года (проект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ноз динамики численности молодежи с 2010 до 2025 – с 36,6 млн. до 25 мл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т охвата молодого поколения асоциальными проявлени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молодежной безработицы среди всех российских безработных составляет 42,5-43,5%, а основную их долю - безработные в возрасте 20-24 л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2% молодых болеют обычными заболеваниями, имеют хронические заболевания - 11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ритерии оценки результативност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т количества обучающихся, задействованных в деятельности духовно-нравственного на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родителей деятельностью лицея по духовно-нравственному воспит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ожительная оценка продуктов творческой деятельности обучающихся духовно-нравственного направления внешними экспертами ( не менее 70% работ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ожительная динамика результатов формирования у обучающихся соответствующих деятельности духовно-нравственного направления УУ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Духовно-нравственное воспитание школьников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в условиях реализации ФГО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4920" y="407628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ова Елена Николаевн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yceum22@mail.r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(38452) 7-17-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258920" y="260280"/>
            <a:ext cx="66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«Лицей № 22 города Белов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Образ будущего у старшекласс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0556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ереотипный «советский»/ формальный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2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адно-европейский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4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диционный российский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2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тиворечивый, несформированный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Образ семьи у старшекласс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диционная российская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адно-европейска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ыночная –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глянцевая»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оветская»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21,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рее, нет семьи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561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Нормативно – правовые осно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1374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он «Об образовании в РФ» Статья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. 1  … Содержание образования должно …обеспечивать формирование и развитие его личности в соответствии с принятыми в семье и обществе духовно-нравственными и социокультурными ценностя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цепция духовно-нравственного развития и воспитания гражданина Росс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Современный национальный воспитательный идеал — э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онравственный, творческий, компетентный граждан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и, принимающий судьбу Отечества как свою личную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ознающий ответственность за настоящее и будущее сво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раны, укоренённый в духовных и культурных традиция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огонационального народа Российской Федерации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Программа духовно-нравственного воспитания школь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щепедагогическая цель программы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я у обучающихся универсальных учебных действий  в деятельности духовно-нравственного направления в условиях введения ФГОС ОО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рганизационно-педагогическая ц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ограммы – обеспечить условия, результативной внеурочной деятельность обучающихся духовно-нравственного направления в условиях введения ФГОС ОО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1341360"/>
          <a:ext cx="8229600" cy="51818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ительная запис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жидаемые результаты програм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реализации программ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сь православ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енность Древней Рус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одные промысл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моводство в Древней Рус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истоков мастерств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ужейное и ювелирное дело Древней Рус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лож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орм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Organization Chart 37"/>
          <p:cNvGrpSpPr/>
          <p:nvPr/>
        </p:nvGrpSpPr>
        <p:grpSpPr>
          <a:xfrm>
            <a:off x="179280" y="692280"/>
            <a:ext cx="8856360" cy="6049080"/>
            <a:chOff x="179280" y="692280"/>
            <a:chExt cx="8856360" cy="6049080"/>
          </a:xfrm>
        </p:grpSpPr>
        <p:cxnSp>
          <p:nvCxnSpPr>
            <p:cNvPr id="58" name="_s1028"/>
            <p:cNvCxnSpPr>
              <a:stCxn id="59" idx="0"/>
              <a:endCxn id="60" idx="2"/>
            </p:cNvCxnSpPr>
            <p:nvPr/>
          </p:nvCxnSpPr>
          <p:spPr>
            <a:xfrm flipH="1" flipV="1" rot="5400000">
              <a:off x="4078800" y="3968280"/>
              <a:ext cx="356400" cy="163224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0"/>
              <a:endCxn id="60" idx="2"/>
            </p:cNvCxnSpPr>
            <p:nvPr/>
          </p:nvCxnSpPr>
          <p:spPr>
            <a:xfrm flipV="1" rot="16200000">
              <a:off x="6527160" y="3151440"/>
              <a:ext cx="356400" cy="326556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0"/>
              <a:endCxn id="60" idx="2"/>
            </p:cNvCxnSpPr>
            <p:nvPr/>
          </p:nvCxnSpPr>
          <p:spPr>
            <a:xfrm flipV="1" rot="16200000">
              <a:off x="5710680" y="3967920"/>
              <a:ext cx="356400" cy="163224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6" idx="0"/>
              <a:endCxn id="60" idx="2"/>
            </p:cNvCxnSpPr>
            <p:nvPr/>
          </p:nvCxnSpPr>
          <p:spPr>
            <a:xfrm flipV="1">
              <a:off x="5073120" y="4606200"/>
              <a:ext cx="2160" cy="35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0"/>
              <a:endCxn id="60" idx="2"/>
            </p:cNvCxnSpPr>
            <p:nvPr/>
          </p:nvCxnSpPr>
          <p:spPr>
            <a:xfrm flipH="1" flipV="1" rot="5400000">
              <a:off x="3263400" y="3152880"/>
              <a:ext cx="356400" cy="326268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33"/>
            <p:cNvCxnSpPr>
              <a:stCxn id="70" idx="1"/>
              <a:endCxn id="71" idx="2"/>
            </p:cNvCxnSpPr>
            <p:nvPr/>
          </p:nvCxnSpPr>
          <p:spPr>
            <a:xfrm rot="10800000">
              <a:off x="877680" y="1402920"/>
              <a:ext cx="3495600" cy="4982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4"/>
            <p:cNvCxnSpPr>
              <a:stCxn id="60" idx="1"/>
              <a:endCxn id="71" idx="2"/>
            </p:cNvCxnSpPr>
            <p:nvPr/>
          </p:nvCxnSpPr>
          <p:spPr>
            <a:xfrm rot="10800000">
              <a:off x="877680" y="1402920"/>
              <a:ext cx="3495600" cy="2847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35"/>
            <p:cNvCxnSpPr>
              <a:stCxn id="74" idx="1"/>
              <a:endCxn id="71" idx="2"/>
            </p:cNvCxnSpPr>
            <p:nvPr/>
          </p:nvCxnSpPr>
          <p:spPr>
            <a:xfrm rot="10800000">
              <a:off x="877680" y="1402920"/>
              <a:ext cx="3495600" cy="1779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1036"/>
            <p:cNvCxnSpPr>
              <a:stCxn id="76" idx="1"/>
              <a:endCxn id="71" idx="2"/>
            </p:cNvCxnSpPr>
            <p:nvPr/>
          </p:nvCxnSpPr>
          <p:spPr>
            <a:xfrm rot="10800000">
              <a:off x="877680" y="1402920"/>
              <a:ext cx="3495600" cy="712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1037"/>
            <p:cNvSpPr/>
            <p:nvPr/>
          </p:nvSpPr>
          <p:spPr>
            <a:xfrm>
              <a:off x="179280" y="69228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Внеуроч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заня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038"/>
            <p:cNvSpPr/>
            <p:nvPr/>
          </p:nvSpPr>
          <p:spPr>
            <a:xfrm>
              <a:off x="4373640" y="175968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Урок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1039"/>
            <p:cNvSpPr/>
            <p:nvPr/>
          </p:nvSpPr>
          <p:spPr>
            <a:xfrm>
              <a:off x="4373640" y="282708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Мероприя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онкурс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олимпиад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1040"/>
            <p:cNvSpPr/>
            <p:nvPr/>
          </p:nvSpPr>
          <p:spPr>
            <a:xfrm>
              <a:off x="4373640" y="38948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Творческое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объедине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_s1041"/>
            <p:cNvSpPr/>
            <p:nvPr/>
          </p:nvSpPr>
          <p:spPr>
            <a:xfrm>
              <a:off x="4373640" y="603000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Проектная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деятельност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1042"/>
            <p:cNvSpPr/>
            <p:nvPr/>
          </p:nvSpPr>
          <p:spPr>
            <a:xfrm>
              <a:off x="111168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Редакция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1043"/>
            <p:cNvSpPr/>
            <p:nvPr/>
          </p:nvSpPr>
          <p:spPr>
            <a:xfrm>
              <a:off x="437364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Студ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1044"/>
            <p:cNvSpPr/>
            <p:nvPr/>
          </p:nvSpPr>
          <p:spPr>
            <a:xfrm>
              <a:off x="600552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лу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1045"/>
            <p:cNvSpPr/>
            <p:nvPr/>
          </p:nvSpPr>
          <p:spPr>
            <a:xfrm>
              <a:off x="763704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Акти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1046"/>
            <p:cNvSpPr/>
            <p:nvPr/>
          </p:nvSpPr>
          <p:spPr>
            <a:xfrm>
              <a:off x="2743200" y="4962240"/>
              <a:ext cx="139716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Сай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Управление и организ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ординационный сов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й сов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тельское собр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рирующий администрат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кое объединение педагог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Ю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Мурик</cp:lastModifiedBy>
  <dcterms:modified xsi:type="dcterms:W3CDTF">2014-04-07T23:46:22Z</dcterms:modified>
  <cp:revision>38</cp:revision>
  <dc:subject/>
  <dc:title>Слайд 1</dc:title>
</cp:coreProperties>
</file>